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DD8-FC55-4415-A39A-22542D57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846-47A3-4D4E-BF9D-2B9F661C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5FA-E128-41D1-8724-AB8AE478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9A9-960B-436B-B792-CD23DA01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833-D9CE-4CAB-97BB-39E29DEB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C82-5D67-4563-A07F-D3434385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C7E-BCF9-4AD5-822E-1B5750F7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70F-C354-481B-9C00-E7EF3849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F6F-757D-4C52-984D-E12E9019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A1B-F156-41E0-9944-74A8096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573-97B4-4251-BE7D-C1AEDBB1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9F6-E536-4C4D-A497-4D705FA4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7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7942-0EB6-485D-AE72-43AB3F2E4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97320" y="365040"/>
            <a:ext cx="235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5880" y="5637240"/>
            <a:ext cx="7261200" cy="63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Exercise Behavior and Adhere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4920" y="1376280"/>
            <a:ext cx="6170400" cy="4049640"/>
          </a:xfrm>
          <a:prstGeom prst="rect">
            <a:avLst/>
          </a:prstGeom>
          <a:ln w="38160">
            <a:solidFill>
              <a:srgbClr val="f9c308"/>
            </a:solidFill>
            <a:miter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86320" y="12142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for Not Exerc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74920" y="2589120"/>
            <a:ext cx="435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74920" y="3300480"/>
            <a:ext cx="435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011480"/>
            <a:ext cx="435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53200" y="7444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for Not Exerc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0240" y="2443320"/>
            <a:ext cx="6643440" cy="194148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577960"/>
            <a:ext cx="6553440" cy="16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xercise professionals should highlight the benefits of exercise and provide a supportive environment to involve sedentary people in physical activ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20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00240" y="2443320"/>
            <a:ext cx="6643440" cy="194148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577960"/>
            <a:ext cx="6553440" cy="16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eople often cite time constraints for not exercising, but such constraints are more perceived than real and often reveal a person’s priorit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31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753200" y="7444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for Not Exerc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05960" y="739800"/>
            <a:ext cx="77716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ndividual Barriers to Physical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9242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time, energy, or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55888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cessive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19392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llness or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8289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eeling uncomf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640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sk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0990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ear of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5838840"/>
            <a:ext cx="485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See table 18.1 on p. 403 of tex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723960"/>
            <a:ext cx="822960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Problem of 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1164" t="1334" r="1164" b="1334"/>
          <a:stretch/>
        </p:blipFill>
        <p:spPr>
          <a:xfrm>
            <a:off x="1919160" y="1852560"/>
            <a:ext cx="5292720" cy="460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50400" y="1214280"/>
            <a:ext cx="730836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Problem of 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58912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lp those who start exercising to overcome barriers to continuing the exercis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77028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lp exercisers develop contingency plans to overcome factors leading to relapses (not exercis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36920" y="762120"/>
            <a:ext cx="77018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2108160"/>
            <a:ext cx="4065480" cy="457200"/>
            <a:chOff x="0" y="2108160"/>
            <a:chExt cx="4065480" cy="457200"/>
          </a:xfrm>
        </p:grpSpPr>
        <p:sp>
          <p:nvSpPr>
            <p:cNvPr id="157" name=""/>
            <p:cNvSpPr/>
            <p:nvPr/>
          </p:nvSpPr>
          <p:spPr>
            <a:xfrm>
              <a:off x="2747880" y="210816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2108160"/>
              <a:ext cx="353376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14400" y="210348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Health Belie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030480"/>
            <a:ext cx="731376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The likelihood of exercising depends on the person’s perception of the severity of health risks and appraisal of the costs and benefits of taking 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2960" y="254952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Becker and Maiman, 19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00240" y="2443320"/>
            <a:ext cx="6643440" cy="124272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2577960"/>
            <a:ext cx="65534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verall “inconsistent” support for Health Belief Model predictions of exercise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67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Health Belief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8600" y="373068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Becker and Maiman, 19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39960" y="281628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n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39960" y="352728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bjective norms and attitude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7000" y="2108160"/>
            <a:ext cx="765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Exercise behavior is made up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heory of Planned Behavi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39960" y="423864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rceptions of ability to perform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39680" y="511488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Ajzen and Madden, 198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00240" y="2443320"/>
            <a:ext cx="6643440" cy="124272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2577960"/>
            <a:ext cx="65534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theory of planned behavior is a useful theory for predicting exercise behavi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87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heory of Planned Behavi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28600" y="373068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Ajzen and Madden, 198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10600" y="739800"/>
            <a:ext cx="33292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ession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75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 Study Exercise Behavi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6478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 Exercise Behavior and Adherence Are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7400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sons to Exer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4006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sons for Not Exerc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506088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Problem of Exercise Adh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36920" y="762120"/>
            <a:ext cx="77018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2108160"/>
            <a:ext cx="4675320" cy="457200"/>
            <a:chOff x="0" y="2108160"/>
            <a:chExt cx="4675320" cy="457200"/>
          </a:xfrm>
        </p:grpSpPr>
        <p:sp>
          <p:nvSpPr>
            <p:cNvPr id="198" name=""/>
            <p:cNvSpPr/>
            <p:nvPr/>
          </p:nvSpPr>
          <p:spPr>
            <a:xfrm>
              <a:off x="3357720" y="210816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2108160"/>
              <a:ext cx="414324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914400" y="210348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ocial Cognitiv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303048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Exercise behavior is influenced by both personal and environmental factors, particularly self-effica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254952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Bandura, 1986,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00240" y="2443320"/>
            <a:ext cx="6643440" cy="166212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577960"/>
            <a:ext cx="655344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Social cognitive theory has produced some of the most consistent results in predicting exercise behavi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208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Social Cognitive Theo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8600" y="414972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Bandura, 1986,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ranstheoretical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8800" y="2936880"/>
            <a:ext cx="71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contemplation stage (does not exerc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8800" y="3548160"/>
            <a:ext cx="7148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emplation stage (has fleeting thoughts of exerci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14480" y="1870200"/>
            <a:ext cx="7062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An individual progresses through five stages of chan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8800" y="4600440"/>
            <a:ext cx="7148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ation stage (exercises, but not regularly enou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5838840"/>
            <a:ext cx="485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Prochaska, DiClemente, and Norcross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ranstheoretical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28800" y="2936880"/>
            <a:ext cx="7148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ion stage (has been exercising regularly, but for less than six mont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28800" y="3992400"/>
            <a:ext cx="7148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intenance stage (has been exercising regularly for more than six mont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14480" y="1870200"/>
            <a:ext cx="7062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An individual progresses through five stages of chan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5241960"/>
            <a:ext cx="485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Prochaska, DiClemente, and Norcross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200240" y="2189160"/>
            <a:ext cx="6643440" cy="161136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324160"/>
            <a:ext cx="655344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Different exercise behavior induction strategies are used during the different transtheoretical sta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49520" y="189540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53920" y="1896480"/>
            <a:ext cx="778320" cy="396000"/>
            <a:chOff x="853920" y="1896480"/>
            <a:chExt cx="778320" cy="396000"/>
          </a:xfrm>
        </p:grpSpPr>
        <p:sp>
          <p:nvSpPr>
            <p:cNvPr id="235" name=""/>
            <p:cNvSpPr/>
            <p:nvPr/>
          </p:nvSpPr>
          <p:spPr>
            <a:xfrm>
              <a:off x="855720" y="189648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53920" y="205704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25720" y="189648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123920" y="205704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98600" y="189648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396800" y="205704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ranstheoretical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8600" y="3832200"/>
            <a:ext cx="570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Prochaska, DiClemente, and Norcross, 199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00240" y="4780080"/>
            <a:ext cx="6643440" cy="161136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4915080"/>
            <a:ext cx="655344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atching the intervention to the stage of change is effective in producing high levels of regular exerci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49520" y="448632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53920" y="4487400"/>
            <a:ext cx="778320" cy="396000"/>
            <a:chOff x="853920" y="4487400"/>
            <a:chExt cx="778320" cy="396000"/>
          </a:xfrm>
        </p:grpSpPr>
        <p:sp>
          <p:nvSpPr>
            <p:cNvPr id="247" name=""/>
            <p:cNvSpPr/>
            <p:nvPr/>
          </p:nvSpPr>
          <p:spPr>
            <a:xfrm>
              <a:off x="855720" y="448740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53920" y="464796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25720" y="448740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123920" y="464796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8600" y="448740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396800" y="464796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90720" y="2073240"/>
            <a:ext cx="7162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ny factors, from demographics to physical and social environment, affect exercise particip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8640" y="231840"/>
            <a:ext cx="76788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Factors Associated With Participatio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n Supervised Exercise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42920" y="5838840"/>
            <a:ext cx="485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See table 18.03 on p. 409 of tex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46360" y="219240"/>
            <a:ext cx="7585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terminants of Exercise Adher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6200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mographic variables (e.g., education, income, gender, socioeconomic status) have a strong association with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3371760"/>
            <a:ext cx="73137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arly involvement in sport and physical activity should be encouraged, because there is a positive relation between childhood exercise and adult physical activity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52005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arriers to exercise are similar for white and nonwhite pop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14400" y="19620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f-efficacy and self-motivation consistently predict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2940120"/>
            <a:ext cx="73137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pousal support is critical to enhance adher-ence rates for people in exercise programs. Spouses should be involved in orientation sessions or in parallel exercis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76892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ercise intensities should be kept at moderate levels to enhance the probability of long-term adherence to exercis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6360" y="219240"/>
            <a:ext cx="7585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terminants of Exercise Adher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14400" y="1962000"/>
            <a:ext cx="73137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roup exercising generally produces higher levels of adherence than exercising alone, but tailoring programs to fit individuals and the constraints they feel can help them adhere to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2228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st-exercise participation predicts exercis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6360" y="219240"/>
            <a:ext cx="7585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terminants of Exercise Adher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14400" y="1962000"/>
            <a:ext cx="73137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ercise leaders influence the success of an exercise program. They should be knowledge-able, give lots of feedback and praise, help participants set flexible goals, and show concern for safety and psychological com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42228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convenient location is an important predictor of exercis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6360" y="219240"/>
            <a:ext cx="7585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terminants of Exercise Adher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10600" y="739800"/>
            <a:ext cx="33292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ession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75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ories/Models of Exercise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6478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terminants of Exercise Adh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3084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rategies for Enhancing Adherence to Exer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9686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ttings for Exercise Inter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6292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uidelines for Improving Exercise Adh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024280" y="243000"/>
            <a:ext cx="51094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trategies for Enhanc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dherence to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246708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havior modification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303696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inforcement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90512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Six categories of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359892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gnitive/behavioral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416880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cision-making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475920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cial-support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532908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rinsic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59120" y="744480"/>
            <a:ext cx="705240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ehavior Modification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0" y="2104920"/>
            <a:ext cx="2538360" cy="457200"/>
            <a:chOff x="0" y="2104920"/>
            <a:chExt cx="2538360" cy="457200"/>
          </a:xfrm>
        </p:grpSpPr>
        <p:sp>
          <p:nvSpPr>
            <p:cNvPr id="290" name=""/>
            <p:cNvSpPr/>
            <p:nvPr/>
          </p:nvSpPr>
          <p:spPr>
            <a:xfrm>
              <a:off x="1220760" y="210492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2104920"/>
              <a:ext cx="200664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914400" y="210024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Pro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266076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Verbal, physical, or symbolic cues that initiate behaviors (e.g., posters, running shoes by be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0" y="3895560"/>
            <a:ext cx="3016080" cy="457200"/>
            <a:chOff x="0" y="3895560"/>
            <a:chExt cx="3016080" cy="457200"/>
          </a:xfrm>
        </p:grpSpPr>
        <p:sp>
          <p:nvSpPr>
            <p:cNvPr id="296" name=""/>
            <p:cNvSpPr/>
            <p:nvPr/>
          </p:nvSpPr>
          <p:spPr>
            <a:xfrm>
              <a:off x="1725480" y="3895560"/>
              <a:ext cx="1290600" cy="45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3895560"/>
              <a:ext cx="248436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914400" y="389088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Con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445140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Participants enter into a contract with their exercise lea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773360" y="7444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inforcement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3273480"/>
            <a:ext cx="7148520" cy="457200"/>
            <a:chOff x="0" y="3273480"/>
            <a:chExt cx="7148520" cy="457200"/>
          </a:xfrm>
        </p:grpSpPr>
        <p:sp>
          <p:nvSpPr>
            <p:cNvPr id="303" name=""/>
            <p:cNvSpPr/>
            <p:nvPr/>
          </p:nvSpPr>
          <p:spPr>
            <a:xfrm>
              <a:off x="5830920" y="327348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3273480"/>
              <a:ext cx="661680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914400" y="3268800"/>
            <a:ext cx="74376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Rewards for Attendance and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382896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Rewards improve attendance but must be provided throughout the length of the pr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2193840"/>
            <a:ext cx="6602400" cy="457200"/>
            <a:chOff x="0" y="2193840"/>
            <a:chExt cx="6602400" cy="457200"/>
          </a:xfrm>
        </p:grpSpPr>
        <p:sp>
          <p:nvSpPr>
            <p:cNvPr id="309" name=""/>
            <p:cNvSpPr/>
            <p:nvPr/>
          </p:nvSpPr>
          <p:spPr>
            <a:xfrm>
              <a:off x="5284800" y="219384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2193840"/>
              <a:ext cx="607068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14400" y="2189160"/>
            <a:ext cx="74376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Charting attendance and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773360" y="7444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inforcement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0" y="2190600"/>
            <a:ext cx="2711520" cy="457200"/>
            <a:chOff x="0" y="2190600"/>
            <a:chExt cx="2711520" cy="457200"/>
          </a:xfrm>
        </p:grpSpPr>
        <p:sp>
          <p:nvSpPr>
            <p:cNvPr id="317" name=""/>
            <p:cNvSpPr/>
            <p:nvPr/>
          </p:nvSpPr>
          <p:spPr>
            <a:xfrm>
              <a:off x="1420920" y="2190600"/>
              <a:ext cx="1290600" cy="45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2190600"/>
              <a:ext cx="217980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914400" y="218592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74644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Providing feedback to participants on their progress has positive motivational effec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0" y="4006800"/>
            <a:ext cx="3486240" cy="457200"/>
            <a:chOff x="0" y="4006800"/>
            <a:chExt cx="3486240" cy="457200"/>
          </a:xfrm>
        </p:grpSpPr>
        <p:sp>
          <p:nvSpPr>
            <p:cNvPr id="322" name=""/>
            <p:cNvSpPr/>
            <p:nvPr/>
          </p:nvSpPr>
          <p:spPr>
            <a:xfrm>
              <a:off x="2195640" y="4006800"/>
              <a:ext cx="1290600" cy="45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4006800"/>
              <a:ext cx="295416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914400" y="400212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elf-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456264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Participants keep written records of their physical activ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165320" y="744480"/>
            <a:ext cx="68450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gnitive/Behavior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39960" y="342576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f-set rather than instructor-se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9960" y="413712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lexible rather than fixed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7000" y="2717640"/>
            <a:ext cx="765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Exercise-related goals sh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9960" y="484812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ime based rather than distance b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27000" y="1968480"/>
            <a:ext cx="765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oal setting should be used to motivate individu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165320" y="744480"/>
            <a:ext cx="68450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gnitive/Behavior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660760"/>
            <a:ext cx="7313760" cy="16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Dissociative strategies emphasize external distractions and produce significantly higher levels of exercise adherence than associative strategies focusing on internal body feed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2104920"/>
            <a:ext cx="4389480" cy="457200"/>
            <a:chOff x="0" y="2104920"/>
            <a:chExt cx="4389480" cy="457200"/>
          </a:xfrm>
        </p:grpSpPr>
        <p:sp>
          <p:nvSpPr>
            <p:cNvPr id="339" name=""/>
            <p:cNvSpPr/>
            <p:nvPr/>
          </p:nvSpPr>
          <p:spPr>
            <a:xfrm>
              <a:off x="3043080" y="2104920"/>
              <a:ext cx="1346400" cy="457200"/>
            </a:xfrm>
            <a:custGeom>
              <a:avLst/>
              <a:gdLst>
                <a:gd name="textAreaLeft" fmla="*/ 0 w 1346400"/>
                <a:gd name="textAreaRight" fmla="*/ 1346760 w 1346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2104920"/>
              <a:ext cx="349884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914400" y="2100240"/>
            <a:ext cx="6539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Cognitive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585080" y="744480"/>
            <a:ext cx="60116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cision-Making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3816360"/>
            <a:ext cx="731376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ompleting a decision balance sheet to increase awareness of the costs and benefits of participating in an exercise program can enhance exercise adhere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3260880"/>
            <a:ext cx="4719600" cy="457200"/>
            <a:chOff x="0" y="3260880"/>
            <a:chExt cx="4719600" cy="457200"/>
          </a:xfrm>
        </p:grpSpPr>
        <p:sp>
          <p:nvSpPr>
            <p:cNvPr id="347" name=""/>
            <p:cNvSpPr/>
            <p:nvPr/>
          </p:nvSpPr>
          <p:spPr>
            <a:xfrm>
              <a:off x="3373560" y="3260880"/>
              <a:ext cx="1346040" cy="457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3260880"/>
              <a:ext cx="382896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914400" y="3255840"/>
            <a:ext cx="6539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Develop Balance 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27000" y="1968480"/>
            <a:ext cx="76564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volve exercisers in decisions regarding program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950480" y="744480"/>
            <a:ext cx="5295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 Decision Balance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1000" y="2852640"/>
            <a:ext cx="6634080" cy="202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tter physical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s time wit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b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re energy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igh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189080" y="2235240"/>
            <a:ext cx="6734160" cy="2841480"/>
            <a:chOff x="1189080" y="2235240"/>
            <a:chExt cx="6734160" cy="2841480"/>
          </a:xfrm>
        </p:grpSpPr>
        <p:sp>
          <p:nvSpPr>
            <p:cNvPr id="356" name=""/>
            <p:cNvSpPr/>
            <p:nvPr/>
          </p:nvSpPr>
          <p:spPr>
            <a:xfrm>
              <a:off x="1189080" y="2235240"/>
              <a:ext cx="6734160" cy="51912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46440" y="2711520"/>
              <a:ext cx="7164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9080" y="2711520"/>
              <a:ext cx="7128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51600" y="2711520"/>
              <a:ext cx="7164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4524480" y="1677960"/>
              <a:ext cx="63360" cy="6734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251000" y="2263680"/>
            <a:ext cx="6640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GAINS TO SELF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LOSSES TO 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950480" y="744480"/>
            <a:ext cx="5295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 Decision Balance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51000" y="3157560"/>
            <a:ext cx="6634080" cy="191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et healthier so I ca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s time with m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lay baseball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come more attrac-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s time to devot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ive to my spous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189080" y="2235240"/>
            <a:ext cx="6734160" cy="3082680"/>
            <a:chOff x="1189080" y="2235240"/>
            <a:chExt cx="6734160" cy="3082680"/>
          </a:xfrm>
        </p:grpSpPr>
        <p:sp>
          <p:nvSpPr>
            <p:cNvPr id="368" name=""/>
            <p:cNvSpPr/>
            <p:nvPr/>
          </p:nvSpPr>
          <p:spPr>
            <a:xfrm>
              <a:off x="1189080" y="2235240"/>
              <a:ext cx="6734160" cy="8240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46440" y="2952720"/>
              <a:ext cx="7164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9080" y="2952720"/>
              <a:ext cx="7128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51600" y="2952720"/>
              <a:ext cx="7164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4524120" y="1918800"/>
              <a:ext cx="63720" cy="6734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251000" y="2263680"/>
            <a:ext cx="6640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GAINS TO 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LOSSES TO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IMPORTANT OTHERS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IMPORTANT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950480" y="744480"/>
            <a:ext cx="5295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 Decision Balance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51000" y="2852640"/>
            <a:ext cx="6634080" cy="276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y children woul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y boss thinks i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ke to see me b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akes time awa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re activ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rom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y spouse would li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 to lead healthi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89080" y="2222640"/>
            <a:ext cx="6734160" cy="3590640"/>
            <a:chOff x="1189080" y="2222640"/>
            <a:chExt cx="6734160" cy="3590640"/>
          </a:xfrm>
        </p:grpSpPr>
        <p:sp>
          <p:nvSpPr>
            <p:cNvPr id="380" name=""/>
            <p:cNvSpPr/>
            <p:nvPr/>
          </p:nvSpPr>
          <p:spPr>
            <a:xfrm>
              <a:off x="1189080" y="2222640"/>
              <a:ext cx="6734160" cy="533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46440" y="2484360"/>
              <a:ext cx="71640" cy="32799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9080" y="2484360"/>
              <a:ext cx="71280" cy="32799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51600" y="2484360"/>
              <a:ext cx="71640" cy="32799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4524480" y="2414520"/>
              <a:ext cx="63360" cy="6734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51000" y="2263680"/>
            <a:ext cx="6640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APPROVAL OF OTHERS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DISAPPROVAL OF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2073240"/>
            <a:ext cx="71625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spite the current societal emphasis on fitness, a small percentage of children and adults participate in regular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98600" y="727200"/>
            <a:ext cx="63133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y Study Exercise Behavi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950480" y="744480"/>
            <a:ext cx="5295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 Decision Balance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189080" y="2235240"/>
            <a:ext cx="6734160" cy="2219040"/>
            <a:chOff x="1189080" y="2235240"/>
            <a:chExt cx="6734160" cy="2219040"/>
          </a:xfrm>
        </p:grpSpPr>
        <p:sp>
          <p:nvSpPr>
            <p:cNvPr id="391" name=""/>
            <p:cNvSpPr/>
            <p:nvPr/>
          </p:nvSpPr>
          <p:spPr>
            <a:xfrm>
              <a:off x="1189080" y="2235240"/>
              <a:ext cx="6734160" cy="51912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46440" y="2495520"/>
              <a:ext cx="71640" cy="190980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89080" y="2495520"/>
              <a:ext cx="71280" cy="190980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51600" y="2495520"/>
              <a:ext cx="71640" cy="190980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524120" y="1055160"/>
              <a:ext cx="63720" cy="6734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251000" y="2263680"/>
            <a:ext cx="6640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SELF-APPROVAL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SELF-DISAPPRO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251000" y="2852640"/>
            <a:ext cx="6634080" cy="1800360"/>
            <a:chOff x="1251000" y="2852640"/>
            <a:chExt cx="6634080" cy="1800360"/>
          </a:xfrm>
        </p:grpSpPr>
        <p:sp>
          <p:nvSpPr>
            <p:cNvPr id="399" name=""/>
            <p:cNvSpPr/>
            <p:nvPr/>
          </p:nvSpPr>
          <p:spPr>
            <a:xfrm>
              <a:off x="1251000" y="2852640"/>
              <a:ext cx="6634080" cy="180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3378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Feel more confident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I look foolish exer-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ising because I’m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 of sha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1000" y="3386160"/>
              <a:ext cx="6634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3378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Improved self-concep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727280" y="731880"/>
            <a:ext cx="5664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ocial-Support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104920"/>
            <a:ext cx="3449520" cy="457200"/>
            <a:chOff x="0" y="2104920"/>
            <a:chExt cx="3449520" cy="457200"/>
          </a:xfrm>
        </p:grpSpPr>
        <p:sp>
          <p:nvSpPr>
            <p:cNvPr id="405" name=""/>
            <p:cNvSpPr/>
            <p:nvPr/>
          </p:nvSpPr>
          <p:spPr>
            <a:xfrm>
              <a:off x="2103480" y="2104920"/>
              <a:ext cx="1346040" cy="457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2104920"/>
              <a:ext cx="255888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914400" y="2100240"/>
            <a:ext cx="6539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oci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1960" y="2641680"/>
            <a:ext cx="7988400" cy="13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3952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74772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8a72"/>
                </a:solidFill>
                <a:latin typeface="Wingdings 2"/>
                <a:ea typeface="Wingdings 2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An individual’s (e.g., spouse’s, family member’s, friend’s) favorable attitude toward another individual’s involvement in an exercise pr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1960" y="4003560"/>
            <a:ext cx="7988400" cy="13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3952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74772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8a72"/>
                </a:solidFill>
                <a:latin typeface="Wingdings 2"/>
                <a:ea typeface="Wingdings 2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ocial support can be enhanced by participation in a small group, the use of personalized feedback and the use of a buddy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446920" y="1214280"/>
            <a:ext cx="43228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ntrinsic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258912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cus on the experience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33386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ake a process ori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40878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gage in purposeful and meaningful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090800" y="1214280"/>
            <a:ext cx="70538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ettings for Exercise Inter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258912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09680" y="328788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ork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98628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468468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538308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lth care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200240" y="2443320"/>
            <a:ext cx="6643440" cy="166212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77960"/>
            <a:ext cx="655344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mmunity-based approaches appear to offer the best way of reaching large numbers of peo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428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084680" y="728640"/>
            <a:ext cx="70538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ettings for Exercise Inter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090520" y="219240"/>
            <a:ext cx="5110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lines for Impro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19620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ch the intervention to the participant’s stag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294012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vide cues for exercises (signs, posters, cartoo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40449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ke the exercises enjoy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47181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ailor the intensity, duration, and frequency of the exerc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090520" y="219240"/>
            <a:ext cx="5110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lines for Impro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19620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mote exercising with a group or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26352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e participants sign a contract or statement of intent to comply with the exercis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7400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ffer a choice of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4400" y="441324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vide rewards for attendance and particip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551808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ive individualized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090520" y="219240"/>
            <a:ext cx="5110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lines for Impro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19620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nd a convenient place for exerci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26352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e participants reward themselves for achieving certain go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14400" y="374004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courage goals to be a self-set, flexible, and time based (rather than distance bas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484488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mind participants to focus on environmental cues (not bodily cues) when exerci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090520" y="219240"/>
            <a:ext cx="5110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lines for Impro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19620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e small-group discu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26100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e participants complete a decision balance sheet before starting the exercis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368928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btain social support from the participant’s spouse, family members, and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14400" y="476892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ggest keeping daily exercise 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54165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lp participants choose purposeful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17463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0% of adults are completely seden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30508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0% of youth (ages 12-21)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do no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participate in regular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328284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5% of children and adults report doing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2609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nly 15% of adults participate in vigorous and frequent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4880" y="219240"/>
            <a:ext cx="60343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y Exercise Behavi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nd Adherence Are Impor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23872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nly 10% of sedentary adults are likely to begin a program of regular exercise with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17463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mong boys and girls, physical activity declines steadily through adolesc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72412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hysical inactivity is more prevalent among women, African-Americans, and Hispanics, as well as among older and less affluent ad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13388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0% of people starting an exercise program will drop out within six mon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11164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aily attendance in physical education classes dropped from 42% to 25% between 1990 and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4880" y="219240"/>
            <a:ext cx="60343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y Exercise Behavi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nd Adherence Are Impor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50880" y="739800"/>
            <a:ext cx="42544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to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9875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ight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6478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ed risk of cardiovascular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3084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tion in stress and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9686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6292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ilding self-este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28948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ci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58800" y="744480"/>
            <a:ext cx="42544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to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0240" y="2443320"/>
            <a:ext cx="6643440" cy="194148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577960"/>
            <a:ext cx="6553440" cy="16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xercise combined with proper eating habits can help people lose weight; but weight loss should be slow and steady, occurring as changes in exercise and eating patterns take pla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91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58800" y="744480"/>
            <a:ext cx="42544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to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0240" y="2443320"/>
            <a:ext cx="6643440" cy="262728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577960"/>
            <a:ext cx="6553440" cy="228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Both the physiological and psychological benefits of exercise can be cited to help persuade sedentary people to initiate exerci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aintenance” as well as initiation of physical activity is criti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03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21:27Z</dcterms:created>
  <dc:creator>The Staff</dc:creator>
  <dc:description/>
  <dc:language>en-US</dc:language>
  <cp:lastModifiedBy>wsu</cp:lastModifiedBy>
  <cp:lastPrinted>2003-02-04T16:19:56Z</cp:lastPrinted>
  <dcterms:modified xsi:type="dcterms:W3CDTF">2006-10-09T13:34:58Z</dcterms:modified>
  <cp:revision>77</cp:revision>
  <dc:subject/>
  <dc:title>PowerPoint Presentation</dc:title>
</cp:coreProperties>
</file>